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85B-92E6-4C5D-A140-C1D4A8BA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0EA-773B-4025-8EBB-63728F2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3B4-E551-4FFE-A00D-4178241D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0DA-F343-471F-A43F-733614B2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A6C-B8E6-4C2A-8E4A-9D87FDB2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50C-0314-427B-AF24-BBF9753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B32-D94A-4843-BEF3-76264D7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E22-9D6F-4050-88D4-EDCD9A1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92F-5DB0-4F05-8D91-AFF40C28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31E-8FE0-4DE1-8A64-B2ABD92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18E-4504-4E12-AA80-DB791645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825-565C-4078-BA85-3F8609A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6E63-9414-46FB-83C6-A59262EC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621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3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4…3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1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2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3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4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5…4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51814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81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19720" y="3452760"/>
          <a:ext cx="4724280" cy="340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52760"/>
                    <a:ext cx="47242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7150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962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200040" y="373356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229240" y="3048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20:50:51Z</dcterms:created>
  <dc:creator>USD376</dc:creator>
  <dc:description/>
  <dc:language>en-US</dc:language>
  <cp:lastModifiedBy>USD376</cp:lastModifiedBy>
  <dcterms:modified xsi:type="dcterms:W3CDTF">2012-03-08T20:57:16Z</dcterms:modified>
  <cp:revision>2</cp:revision>
  <dc:subject/>
  <dc:title>Slide 1</dc:title>
</cp:coreProperties>
</file>